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742-9008-4925-BDBC-6FDE0658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944-289C-4759-A03F-8DE47E1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637-FFFC-4993-9687-30209295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045-FE12-46E1-88D6-814B473C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3BF-BC4F-46A8-81EB-DA49B7F2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F5B-160A-448C-AAFC-EF178D3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260-660A-4F89-987D-22AD454D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C92-E263-4EE7-A850-D988C74B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E47-EE68-410B-9235-10E34064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1D8-88FB-4361-9A03-05449F38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346-222A-492F-97FD-EE01C7B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515-FBE3-4266-B782-88D0BF8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A66F-3060-499E-9665-EE37297E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oomberg.com/markets/rates-bonds/government-bonds/us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ECONOMICS IN ON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ECONOMY-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THE ECONOMY-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CITS/SURPLUSES AN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and should the governmen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and Monetar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N CURRENT DOLLARS- NOT ADJUSTED FOR PRICE INDEX (LEVEL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ollar (Nominal GDP) is adjusted by the Price Index.  The Price Index is determined by the extent that inflation or deflation has effected the value of a Dollar (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ear – not too far off-- selected to act as the base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ny change in the value of the Dollar the Price Index is 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increase in prices would result in a Price Index of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decrease in prices would result in a Price index of .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- The final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year GDP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YEAR GDP divided by 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(constant dollar GDP)= Nominal (current dollar G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Year GDP is Nominal GDP divided by the New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YR2/price index y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GOOD MEASUREMENT FOR EVALUATING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URING THE DEPRESS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with 40% decrease i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s record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nsactions are not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they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it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MEAS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S OFTEN USED AS A MEANS OF MEASURING ONE COUNTRIES OUTPUT OR WELL-BEING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Department and Commerc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Economic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- Real GDP of 3-4.5% -&gt;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economy he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urs work in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atitistics can help us understand what the economy is doing at this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rate- payroll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I (producer Price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#s should tell us how bad the economy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– Consumer Pric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rate charged by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to incom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- Peak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spect—GROWTH-Bigger pie to share, possible Budget Surpl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-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-Not many, causes businesses to streamline-&gt;becom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-&gt;loads-&gt;Unemployment, lower incomes, social ills- BIG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er R. Reagan- the Difference btw Recession and Depr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y neighbor loses his/her job-&gt;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lose my job-&gt;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THE TOTAL OUTPUT OF THE ECONOMY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ALUE approx $18Trillion (nom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urplus/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Government Spending and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evel- Primarily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imes, revenue up, bad time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Ta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es good and ba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as a % of economy, lowest on record-&gt;14.8% of economy-&gt; appr $1.5 Trillion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-2000 good times brought in high tax revenue-&gt; SURPL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purchase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-go down? May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- sky rocketSSS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ERCYCLICAL POLIC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nesian economics- jump start the economy through government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imulu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UTOMATIC STABILIZERS---UNEMPLOYMENT INSURANCE, WELFARE, FOOD 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st year Government expenditures 25% of economy—60 year rec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s/Debt and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ate Government Spending less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itive—Surplus (rare), some say b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gative- Deficit (common) some say good, unless unwieldly or if it “crowds ou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—if you regularly run deficits you’ll create Debt (debt is accumulated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eficit/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ces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revenue- Historically incredibly 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—HUGE DEFICITs -10%+ OF ECONOMY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trillion dollar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rties contribute to Deficit—Dems—spending side, Reps-revenu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bt- approx. $18Trillion –is that big? Deficits since 1960s except under C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4 deficit- $483 bill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97 b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w deficit recorded i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/Deficits and serv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off debt-&gt; servicing the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onds!- different mat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maturity and interest rate positively co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rice determines its interest rate-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00 bond 2yrs- (value at the end of the term)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loomberg.com/markets/rates-bonds/government-bonds/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rians-NADA- Laissez-Faire—have faith it’ll all work out, don’t screw up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rrecting? Say’s Law?-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else---somet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POLICY- TAX AND SPE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- MONEY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Branch and Legislativ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Propos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passes bills—creat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and Spend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---pass bills that reduce taxes and spend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Management Budget-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 of Economic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, Commerce, Labor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ional Budget OfficeC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s and Means Committee, Budget et.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, Commerce et.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, Money, and Mo Mone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in 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DERAL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913- STABILIZE THE GROWTH OF THE MONEY SUPPLY, OVERSEE AND REGULATE THE BANK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Reserve Chairman- appointed by President- 4 year term- TODAY BEN BERN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Federal Reserve- Is INDEPENDENT OF THE POLITICAL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the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hot-uh oh! Inflation?--slow down the economy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ld-uh oh! Unemployment?----heat up the economy-&gt; lower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-&gt;value of a $ declines, takes more $$$ to buy the same set of goods/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tion-&gt;value $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helps people who borrow at fixed rates, hurts people who lend and people on a fixed income (deflation is opp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inflation-current 2-3%, post WW2 high was appr. 12% in the late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inflation- 100s of %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Inflation/Def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tate? Under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-&gt;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lation- CPI—baske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flation- PPI (cost of resources for Produ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corporate a base year as a unit of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lie with the “basket” of goods– improvements-and bells and whistles often aren’t fully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PUTION + INVESTMENT + GOVERNMENT SPENDING + (EXPORTS-IM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/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-&gt;population employed or actively looking for work (16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Participation Rate-&gt; Labor Force divided by Total # of people 16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- actively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measurement, underemployment, part-time employment, underground economy, those who gave up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- Changes in what society produces, how it produces it, where it produ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, auto worker unemployed in Mi. but position for high tech Google unfilled in 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- Consistent with the business cycle- good times low-bad time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- EG Those who left their jobs voluntarily but don’t’ yet have anothe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count on rough 3 to 4%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14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mployment Rate et.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clical Unemployment tied to Phillips Curve— Inflation and Unemployment inversely r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rent Unemployment Rate 6.7%, peak post War- early 1980s 10%.  Depression?- 25%, Great Recession –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em today- Long Term Unemployed—social ill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get back in the Labor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gflation—late 70s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high inflation, high unemployment and slow growth (pushed out Phillips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must grow by 2% to keep unemployment from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 programs will be a big problem in 10+ years ma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economy will exacerbate deficit/debt problems—Keynes might say—s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ffer Curv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 taxes-&gt; more govt revenu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true at current tax levels, though taxes do cause people to change their behavior and does increase undergrou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-7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” (ON THE BOOKS) SALE OF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NCLUDE ILLEGA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ALU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TOCK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, MACHIN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USED TO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VERNMENT SPENDING, BUT NOT TRANSFER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(WASHINGTON D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(HARTF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(DAR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 TIMES GOVERNMENT SPENDING LOWER THAN IN BA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 &amp;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SOLD ABROAD (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FROM ABROAD PURCHASED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 to measure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ey earned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GDP (C+I+G +(X-M))=Income GDP (se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DJUSTED TO REFLECT INFLATION OR DE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APPLES TO AP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ONSTANT” DOLLAR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28:55Z</dcterms:created>
  <dc:creator>Darien Public Schools</dc:creator>
  <dc:description/>
  <dc:language>en-US</dc:language>
  <cp:lastModifiedBy>Administrator</cp:lastModifiedBy>
  <dcterms:modified xsi:type="dcterms:W3CDTF">2015-04-08T17:36:15Z</dcterms:modified>
  <cp:revision>26</cp:revision>
  <dc:subject/>
  <dc:title>gdp</dc:title>
</cp:coreProperties>
</file>